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6CFBA-BD97-42CD-BB0E-A56446D5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1796A-E449-4DB3-AE10-FE43A0CA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EC5BB-9666-48C6-A6D7-6BA001F1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C7239-FE5D-405E-902D-B09A977B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C341-CBE5-4F2F-962A-856E8EFD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B1EA-5B8E-432C-A028-CE6F2AA1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126B-D382-407F-A459-CF417FBC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9845-79F7-4A45-BB3B-4ECA4DA4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CDE6-7E0E-474D-816A-53CC7865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28C8-8AA8-46E5-95C4-E3703196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200D-C299-490D-8ADE-F18B539A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EA0F6-701C-4192-ACC0-84C290F1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D617-2B32-4711-890F-B64491E4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B5F1-7B55-4338-9413-BC8F12A2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6423-8E20-42AB-BC43-4860F99C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2D5E-C2C0-4C8B-91C1-38BA8147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1E48-A577-4691-A6D9-9624425C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CAB0D-AA75-4982-910D-4613EA2D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54C79-D483-4872-98AF-3F1C2923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03728-04CA-434C-9AF7-6E683E62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F0E4C-D5B9-42B8-AB75-C54E2818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CAF89-61EF-459D-B009-97A98F6D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8EAF7-AD33-4E4A-A6E5-C787E5B3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AE1BE-491D-48A0-BD0E-795597AE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62D0-37C6-45B8-A65E-EECC7EC0ACF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042D-AA9B-4FFB-9B43-EAE96BF628C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691640"/>
            <a:ext cx="11131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3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580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с добрите си дела светет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згласявайте вестта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с светило вий се украсет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да срещнете Хрис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13624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"Будни бъдете!" - Господ рече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бързайте всички сега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ще ни вземе скоро веч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Своята свята зем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6312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дете и молете се във всек час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стъпете при Христ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т чада на своя благ и мил Спас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ий измийте се в кръв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213624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"Будни бъдете!" - Господ рече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бързайте всички сега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ще ни вземе скоро веч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Своята свята зем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79280" y="26312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дете, вярвайте, бъдете точн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зи свят докато трай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кат славата Христова почн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вечността, в небесний ра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280" y="213624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"Будни бъдете!" - Господ рече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бързайте всички сега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ще ни вземе скоро веч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Своята свята зем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6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07-16T16:54:27Z</dcterms:modified>
  <cp:revision>51</cp:revision>
  <dc:subject/>
  <dc:title>Slide 1</dc:title>
</cp:coreProperties>
</file>